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41DA-577E-4C81-A6BF-3F80FAD0B1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hybrid inheritance refers to the simultaneous inheritance of two charac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’s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del investigated the inheritance of seed shape (round v wrinkled) and seed colour (green v yellow)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his monohybrid crosses he knew that round seeds were dominant to wrinkled seeds and yellow seeds were dominant to green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 plants with round x plants with wrink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and yellow seeds     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100% plants with round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 plants with round x plants with rou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yellow seeds    and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tal 556 seeds collected from F2 plan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5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and green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yellow see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nkled and green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 ratio of dominant to recessive features is still 3: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nation of Mendel’s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round seeds be R and the allele for wrinkled seeds be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 the allele for yellow seeds be Y and the allele for green seeds be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  Phenotype          round      x     wrink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llow seeds      green 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1 inter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, yellow seeds  x   round, yellow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Rr Y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Rr 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genotypes and phenotypes of the F2 offspring and in what rati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2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enotype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phenotypes   expected ob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RrYy (4)   yellow, 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2)  RrYY (2)  yellow, roun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3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Rryy (2)   roun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   rrYy (2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yellow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ryy (1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wrinkled, green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ing for statistical error, Mendel’s results were a reasonable approximation to the expected 9:3:3:1 rat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a member of an allelic pair may combine randomly with either of another 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cross can be performed to check the possible genotypes of a plant producing round, yellow seeds (RRYY, RrYY, RrYy, RRYy) by crossing the plants with a homozygous recessive plant with wrinkled green seeds genotype rry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phenotypes and genotypes would the offspring possess from the 4 crosses, and in what rati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A235-A304-4238-8F93-958496C1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842-C9DF-43B4-B09B-D47B85A9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78E-F60F-49C7-994C-4080DE04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7B04-7DDC-475F-8A2E-0A6CF623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833E-7669-4C30-B0FD-F57F5616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89FF-F651-483D-9FFC-D4F05628E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9676-D958-4E14-83A3-A1C60EF1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4DF9-F349-4408-8F59-B581D285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20867-1149-4F96-8DC0-1185B265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266C-1144-4201-8533-5E7DB140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FDB7-AD0F-4F88-8A4D-03CF0A8E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D2A9-D390-40A3-824C-E6631644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391E-D64C-41E1-B6C2-71F6C662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236F1-1BEC-4433-96D3-6261344F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615D-D464-47C7-B80D-6F5107F3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07A1-8DC7-4609-8D4B-63ADDB77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85EF-4175-4F38-A36C-224C8639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7BD7-83C0-4DDA-9DE9-B0F8E5C02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496-951D-4246-8580-817996BA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9B4-3316-4EA8-B0CC-634A3B9B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504A-7A86-43BA-AD13-4B2649C5C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656-98FA-45F8-AEE0-A2B09A84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98A-0456-41EC-A05A-51B0EA4D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C1AB-8FD2-4348-9CCC-F1296F54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FBC9-CF65-448C-B17F-3018677DAC1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B72F-194E-45AC-83CE-85C727864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66cc"/>
                </a:solidFill>
                <a:latin typeface="Verdana"/>
              </a:rPr>
              <a:t>Dihybrid Inheritance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Verdana"/>
              </a:rPr>
              <a:t>Dihybrid inheritance refers to the simultaneous inheritance of two charact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Mendel’s experiment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ndel investigated the inheritance of seed shape (round v wrinkled) and seed colour (green v yellow) at the same ti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m his monohybrid crosses he knew that round seeds were dominant to wrinkled seeds and yellow seeds were dominant to green seed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 chose to cross plants that were pure breeding for both dominant features (round and yellow seeds) with plants that were pure breeding for both recessive features (wrinkled and green seed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66cc"/>
                </a:solidFill>
                <a:latin typeface="Verdana"/>
              </a:rPr>
              <a:t>Results</a:t>
            </a:r>
            <a:r>
              <a:rPr b="0" lang="en-GB" sz="4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plants with round x plants with wrinkled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and yellow seeds      and green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066680" y="1752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100% plants with round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1066680" y="2438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lants with round x plants with ro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yellow seeds    and yellow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1066680" y="32004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2 offspr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Total 556 seeds collected from F2 plan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at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15 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8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 and green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0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yellow seed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2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rinkled and green s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However, the ratio of dominant to recessive features is still 3: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cc"/>
                </a:solidFill>
                <a:latin typeface="Verdana"/>
              </a:rPr>
              <a:t>Explanation of Mendel’s result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round seeds be R and the allele for wrinkled seeds be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t the allele for yellow seeds be Y and the allele for green seeds be 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  Ph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ound      x     wrink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yellow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     green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eed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rr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offsp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Oval 4"/>
          <p:cNvSpPr/>
          <p:nvPr/>
        </p:nvSpPr>
        <p:spPr>
          <a:xfrm>
            <a:off x="434340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"/>
          <p:cNvSpPr/>
          <p:nvPr/>
        </p:nvSpPr>
        <p:spPr>
          <a:xfrm>
            <a:off x="5410080" y="4495680"/>
            <a:ext cx="53352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Oval 6"/>
          <p:cNvSpPr/>
          <p:nvPr/>
        </p:nvSpPr>
        <p:spPr>
          <a:xfrm>
            <a:off x="69343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Oval 7"/>
          <p:cNvSpPr/>
          <p:nvPr/>
        </p:nvSpPr>
        <p:spPr>
          <a:xfrm>
            <a:off x="7848720" y="4495680"/>
            <a:ext cx="533160" cy="5335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1"/>
          <p:cNvGraphicFramePr/>
          <p:nvPr/>
        </p:nvGraphicFramePr>
        <p:xfrm>
          <a:off x="4114800" y="5443560"/>
          <a:ext cx="3201840" cy="115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5443560"/>
                    <a:ext cx="320184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F1 intercross</a:t>
            </a:r>
            <a:endParaRPr b="0" lang="en-US" sz="2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ar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ph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ound, yellow seeds  x   round, yellow s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Rr Yy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           Rr Y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ame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33526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Oval 5"/>
          <p:cNvSpPr/>
          <p:nvPr/>
        </p:nvSpPr>
        <p:spPr>
          <a:xfrm>
            <a:off x="3962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Oval 6"/>
          <p:cNvSpPr/>
          <p:nvPr/>
        </p:nvSpPr>
        <p:spPr>
          <a:xfrm>
            <a:off x="4572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7"/>
          <p:cNvSpPr/>
          <p:nvPr/>
        </p:nvSpPr>
        <p:spPr>
          <a:xfrm>
            <a:off x="51055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8"/>
          <p:cNvSpPr/>
          <p:nvPr/>
        </p:nvSpPr>
        <p:spPr>
          <a:xfrm>
            <a:off x="807732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9"/>
          <p:cNvSpPr/>
          <p:nvPr/>
        </p:nvSpPr>
        <p:spPr>
          <a:xfrm>
            <a:off x="75438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10"/>
          <p:cNvSpPr/>
          <p:nvPr/>
        </p:nvSpPr>
        <p:spPr>
          <a:xfrm>
            <a:off x="685800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11"/>
          <p:cNvSpPr/>
          <p:nvPr/>
        </p:nvSpPr>
        <p:spPr>
          <a:xfrm>
            <a:off x="6324480" y="2895480"/>
            <a:ext cx="457200" cy="4572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1219320" y="441972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Verdana"/>
              </a:rPr>
              <a:t>What are the genotypes and phenotypes of the F2 offspring and in what rat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6"/>
          <p:cNvGraphicFramePr/>
          <p:nvPr/>
        </p:nvGraphicFramePr>
        <p:xfrm>
          <a:off x="1789200" y="905040"/>
          <a:ext cx="564336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89200" y="905040"/>
                    <a:ext cx="564336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Text Box 7"/>
          <p:cNvSpPr/>
          <p:nvPr/>
        </p:nvSpPr>
        <p:spPr>
          <a:xfrm>
            <a:off x="11430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F2 offsp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914400" y="3429000"/>
            <a:ext cx="80773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genotypes  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1" lang="en-GB" sz="2000" spc="-1" strike="noStrike">
                <a:solidFill>
                  <a:srgbClr val="3366cc"/>
                </a:solidFill>
                <a:latin typeface="Verdana"/>
              </a:rPr>
              <a:t>   phenotypes   expected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4)   yellow, 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2)  RrYY (2)  yellow, roun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9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3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Rryy (2)   roun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   rrYy (2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yellow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3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1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ryy (1)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 wrinkled, gree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1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3366cc"/>
                </a:solidFill>
                <a:latin typeface="Verdana"/>
              </a:rPr>
              <a:t>  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430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ing for statistical error, Mendel’s results were a reasonable approximation to the expected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9:3:3:1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rat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ach of a member of an allelic pair may combine randomly with either of another 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test cross can be performed to check the possible genotypes of a plant producing round, yellow seeds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(RRYY, RrYY, RrYy, RRYy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y crossing the plants with a homozygous recessive plant with wrinkled green seeds genotype </a:t>
            </a:r>
            <a:r>
              <a:rPr b="0" lang="en-GB" sz="2400" spc="-1" strike="noStrike">
                <a:solidFill>
                  <a:srgbClr val="3366cc"/>
                </a:solidFill>
                <a:latin typeface="Verdana"/>
              </a:rPr>
              <a:t>rry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cc"/>
                </a:solidFill>
                <a:latin typeface="Verdana"/>
              </a:rPr>
              <a:t>What phenotypes and genotypes would the offspring possess from the 4 crosses, and in what ratio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9:53:59Z</dcterms:created>
  <dc:creator>Angela Wall</dc:creator>
  <dc:description/>
  <dc:language>en-US</dc:language>
  <cp:lastModifiedBy>LEGION2</cp:lastModifiedBy>
  <cp:lastPrinted>2002-12-02T21:19:45Z</cp:lastPrinted>
  <dcterms:modified xsi:type="dcterms:W3CDTF">2016-01-12T10:19:10Z</dcterms:modified>
  <cp:revision>24</cp:revision>
  <dc:subject/>
  <dc:title>Dihybrid Inheritance</dc:title>
</cp:coreProperties>
</file>